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4231-E289-4612-9103-3D8DBDB3F46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WSN:Wireless Sensor Network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無線感測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gBee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的命名源自於蜜蜂在發現花粉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展現如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pZag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形狀的舞蹈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際是傳遞訊息給同伴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EED-BD19-4E44-9C80-6ECBF6F7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98E-C142-4DFA-B4BA-CEDF7B32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F50-648B-4C27-B87A-C12B083F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47A-A1E8-4FC1-B1BE-F3B8638C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FB46-0F20-4789-8382-1DD3AFCE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724D-F24E-4153-827E-DB715B3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579-1A8C-46F1-BDB9-90B6789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4932-7B76-4211-8410-84F0AA11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EE87-79E6-4DF7-AAAF-3740A1BB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00E1-064E-4CEE-99AC-751F1A8C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0103-A2E8-4147-9294-44C48BD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DF7-74CB-4E19-8C11-3BBACA8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D016-03E0-41A7-A91F-E1E8560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B9D7-18BC-45D5-8C93-781E2E1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7CD-02EE-4097-B1CB-D16BFA3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075C-909B-417E-9C5C-87C1A71A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D566-61F5-4F9F-A572-05BA4133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FE8-B673-4F97-B67A-EA766F02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2CF-56C0-4D04-BB84-AE49E131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CCC-073F-4C1F-B68A-7FD2400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85F-04BF-4336-86BF-FD6A23CF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EEB-E4CE-4D7E-A1A6-C156322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7E2-AF5C-4DA3-B23C-86F2864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5D0-37BA-4844-844E-83641218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97F4-AE59-4487-AD81-46DB7E32C0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2A6E-4B5B-4529-8440-D0DE5987104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56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14400" y="326880"/>
            <a:ext cx="7467480" cy="5915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簡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指導老師：鄒景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學　　生：何東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聯網，即透過裝置在各類物體上的射頻識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RFI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、感測器、二維碼等，經過介面與無線網路相連，從而給物體賦予「智能」，實現人與物體的溝通和對話，也可以實現物體與物體互相間的溝通和對話，將物體聯接起來的網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範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物聯網一般為無線網，由於每個人周圍的設備可以達到一千至五千個，所以物聯網可能要包含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億至一千萬億個物體，在物聯網上，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每個人都可以應用電子標籤將真實的物體上網聯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從一瓶牛奶到一架飛機，在物聯網上都可以查找出它們的具體位置，即使在地球的另一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透過物聯網用監控主機對機器、設備、人員進行集中管理、控制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也可以對家庭設備、汽車進行遙控，以及尋找位置防止物品被盜等各種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f_244781_1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26708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43400" y="175248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發展的三個維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f_244781_2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715000" cy="465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160020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架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_244781_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37160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機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研究機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orrsester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預估，物聯網可望成為下一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兆美元的通訊業務；中國移動無錫物聯網研究院也預估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年物聯網將帶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億人民幣的商機，未來物件皆可與電腦主動進行資料傳輸，提供人類更多自動化的整合服務及便利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威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4H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駭客入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廣告騷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隱私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09:42Z</dcterms:created>
  <dc:creator>ho</dc:creator>
  <dc:description/>
  <dc:language>en-US</dc:language>
  <cp:lastModifiedBy>ho</cp:lastModifiedBy>
  <dcterms:modified xsi:type="dcterms:W3CDTF">2010-10-16T07:40:05Z</dcterms:modified>
  <cp:revision>23</cp:revision>
  <dc:subject/>
  <dc:title>PowerPoint 簡報</dc:title>
</cp:coreProperties>
</file>